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8328-E1CB-46C6-92BF-A4759E51D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D97-31AE-4070-836C-C8FE91D963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93B-36E4-47B4-88EA-B9E1C19D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1A7-7624-4D78-934D-783C6EF3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8E5-7BD5-41F1-B28E-BAD2C870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100-B2EC-4C65-BE3C-EBEB4FAC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4A89-9C74-4232-BECF-E8B6D61E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3962-2B5C-42C4-A466-E4BD3C21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461F-43CC-46F1-A995-A2325157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C9E0-1CB6-4D2A-89DA-2507EA7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410A-B19F-4D78-84D8-7A8107B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F26B-4C38-4E8E-BA87-1CFDFE2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5A8F-13DC-4F9D-9FA2-7B66780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282-C9AD-49CB-B7AE-6911747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E3E1-ED1D-4329-85AF-BA5B078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A130-DEDA-4793-818E-5F41A7C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BCB8-ECB8-461B-82A8-E57641AF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D23B-13AE-415E-B241-15CD235A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DA2E-F094-4BE4-895A-DA47937F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DD5-0094-4B79-B55C-57D29D6F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608-0991-4960-ADF5-3E3848E1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002-F92B-4A6C-B538-A7DD21B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4C6-8B67-41FA-8FD7-4AD959D3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D51-B6FF-41FC-B702-AC188E5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049-9BFE-43A7-9835-07FB7D7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75F-FFBD-4843-8A70-457992A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164-F04C-4E58-9DFF-AFD87C9FD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593-DF13-4858-9FD4-F56649C7B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3: Политика илансирањ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03: Стратегија и тактика билансир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и циљ политике билан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ратегије бил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актика бил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атентне резерве и скривени губи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литика биланс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дена је из политике предузећа 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ао таква, нема своје циљеве већ служи искључиво за остварење циљева политике предузећа и парцијалних циљева појединих функционалних подручј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смерена је на свесно уобличавање садржине биланса са законски допустивим мерама за реализацију одређених циљева предузећа у области финансирања, управљања и публицит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погледу материјалне садржине биланса, интереси интерних корисника нису увек у сагласности са интересима екстерних корис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тратегија биланс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функцији је задовољења врхунског циља финансијске политике, односно захтева за финансијском снагом која се манифестује кроз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јну способност плаћања (усклађеност монетарних ток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јну способност финансирања (адекватна власничка структура пасиве која треба да обезбеди сигурност поверилаца, прихватљив финансијски ризик и аутономију дужник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јну способност инвестирања (рентабилност улаг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јну способност повећања имовине влас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јну способност задовољења финансијских интереса учесника у предузећ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ставља средство за остварење ових циљева путем стратегије билансирања стања и успеха, стратегије расподеле добити и стратегије олакшавања поре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акође је и средство за задовољење циљева публицитета кроз политику дискреције или отворе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Тактика биланс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ставља избор средстава и инструмената за остварење стратегије билан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струменти се најчешће сврставају у три велике груп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струменти који се примењују на почетку и у току обрачунског периода - утврђују се планским билансима стања и успеха из којих произилазе и задаци појединих функционалних подручј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струменти који се примењују непосредно пред билансирање - имају за циљ да одређеним пословним потезима директно утичу на билансне агрегат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струменти који се примењују након дана билансирања- усмерени су на форму (исказна моћ) и материјалну садржину (методе отписа) финансијских извештаја који се презентирају екстерним корисницим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Латентне резерве и скривени губиц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едица су мешања реалних и номиналних елемена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 појединим билансним позиција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тцењивање билансних позиција активе, односно прецењивање пасивних билансних позиција доводи до појаве латентних резерви, док у обрнутом случају настају скривени губи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и су главна разлога настанка латентних резерви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јективне тешкоће тачног распоређивања трошкова садашњег и будућег периода (код процене вредности сталне имовине, залиха недовршене производње и готових производа и потражив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зборита примена билансног принципа опрезности  (када се не остваре одређена предвиђања због којих је и примењена опрезност приликом билансирањ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весне манипулације одговорних лица у предузећ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исказивање периодичног резултата који је у функцији реализације политике изједначавања добити и политике уравнотежених дивиденд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циљ политике билан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стратегије билан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инструменте који се примењују у тактици бил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латентних резерви и скривених губит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разлоге настанка латентних резер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логу и значај латентних резер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8T10:47:1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