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516C-E48E-4ED5-838C-862E04EE0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EA5F-AA29-42C6-B23D-9418BC75CE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C2A-FB92-4632-868A-CCBBA563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A62-CC64-416F-85AE-EA18E406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67E-CDFA-40C6-9035-EFE52184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8BF-EAE3-4A80-9399-4777907B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3614-A0F8-45A5-B146-C18007FD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C344-933C-41C7-82C8-D43989FB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7509-2546-41B9-A401-593E0AFA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2AA3-468F-4FD2-BB88-DCB5408E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4ADB-3C00-4616-B277-62315F71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AD70-C683-4AE2-B0C8-5DBBBAA5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C7C3-1852-4809-B222-51A7DB02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31D-39EB-47B5-8121-0E5C5E3B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D4A2-E20C-418D-ACF5-23B837DB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1C94-9225-4DD3-B0EE-1A6300D5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5FA8-FAD1-4FDC-B607-6F8DD1F6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ADFA-7EFD-4B4F-ABA2-408E98D1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3ADB-3B34-4070-96E3-081AE8C1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7B3-4DBD-42F9-9324-28F77A2D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E3A-9328-4E4D-BD2B-A3C502DF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053-6578-450D-8B79-7AA5D72B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30D-0171-48BD-B04E-2C90513F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57D-EE8C-4082-913D-9BABBE32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A49-B93F-4F0D-B0AF-2CA0C2F1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B74-D970-4E0B-BE02-FB078BE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E8C1-3DB6-4B6D-9401-018972989E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DFEF-F1E3-4D5F-89BF-E417C4543B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ja.andrijasevic@fmz.edu.rs" TargetMode="External"/><Relationship Id="rId2" Type="http://schemas.openxmlformats.org/officeDocument/2006/relationships/hyperlink" Target="mailto:maja.andrijasevic@fmz.edu.rs" TargetMode="External"/><Relationship Id="rId3" Type="http://schemas.openxmlformats.org/officeDocument/2006/relationships/hyperlink" Target="mailto:maja.andrijasevic@fmz.edu.rs" TargetMode="External"/><Relationship Id="rId4" Type="http://schemas.openxmlformats.org/officeDocument/2006/relationships/hyperlink" Target="mailto:maja.andrijasevic@fmz.edu.rs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imes New Roman"/>
              </a:rPr>
              <a:t>АНАЛИЗА ПОСЛОВА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Маја Андријаше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maja.andrijasev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064/811-52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Весна Пашић Том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v</a:t>
            </a:r>
            <a:r>
              <a:rPr b="0" lang="sr-Latn-R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esna.pa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ic@fmz.edu.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-09: Анализа успешности пословања</a:t>
            </a:r>
            <a:br>
              <a:rPr sz="28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9: Анализа структуре прихода и расхода, рентабилности, продуктивности, економичности и тржишне вредности акцијског капитал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а структуре прихода, расхода и међурезулт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а рентабил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а економи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а проду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а тржишне вредности (акција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е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структуре прихода, расхода и међурезултат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Израчунава се процентуално учешће појединих врста прихода и расхода у укупним приходима, односно расход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иљ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је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да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е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укаже на тенденциjе у структури кoнститутивних елемената резултата кojи прoистиче из сучељавања прихoда и расхoд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 случају потребе, врши се додатно расчлањивање пословних прихода и расх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рши се и праћење динамике међурезултата при чему се посебна пажња посвећује резултату пословних активности, који у структури међурезултата треба да доминир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рентабил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Парциjални показатељи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- с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топа добитка, односно профитна маржа, указуjе на ефикасност управљања поjединачним и укупним трошковима 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и коефицијент обрта средстава који указује на ефикасност управљања средствима предузе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Глобални показатељи рентабилности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стопа приноса на укупна и сопствена средства, односно поврат на инвестирано, коjи  показуjе стопу укамаћења капитал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а оцену адекватности постигнуте стопе приноса, и њених компоненти, треба jе наjпре упоредити са стопама осталих предузећа у грани, односно гранским стандардима, jер она у великоj мери зависи од врсте делатности коjом се предузеће бав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41760" y="2819160"/>
            <a:ext cx="3701880" cy="2438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економич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редставља парцијални израз ефикасности пословања који указује на трошење у процесу стварања вредност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Анализ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је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, са билансног аспекта, ограничена броjем и карактером информациjа садржаним у билансу успех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јер је з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а детаљну анализу потребан потпун систем обрачуна и праћења трошков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колико су добијене вредности индикатора укупне и пословне економичности &gt; 1, економичност се може сматрати задовољавајућом јер предузеће послује са позитивним финансијским резултат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56080" y="2193840"/>
            <a:ext cx="5587920" cy="368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продуктив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Обзиром да рачуноводствени извештаjи не садрже натуралне податке (о физичком обиму производње) на основу доступних информациjа из биланса успеха, уз додат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и податак о броjу запослених, врши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се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анализа продуктивности са билансног аспек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оказатељи указуj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на утицаj броjа запослених на ниво остварене рентабилности и анализираjу се временском компарациjом, односно упоређивањем са показатељима претходних пословних периода и компарациjом са показатељима продуктивности осталих предузећа у истоj грани делат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иза тржишне вредности (акција)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Зарада по акциjи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мера jе рентабилности по jедноj акциjи значаjна за информисање потенциjалних улагач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Дивиденда по акциjи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директни jе показатељ политике расподеле jер репрезентуjе део зараде коjи jе исплаћен акционарима кроз дивиденде и део зараде задржан за акумулациj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Дивидендна стопа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указуjе на принос коjи акционар остваруjе у односу на тржишну вредност акциjе коjу поседуjе, односно проценат укамаћења акциj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Однос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тржишне цене према заради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репрезентуjе информативни поврат са тржишта, односно очекивање улагач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показуjе колико су спремни да плате да би остварили принос од акциj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Однос тржишне цене и номиналне вредности акције -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казује проценат повећања, односно смањења номиналне вредности акција у односу на цену по којој се котирају на тржишт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цена успешности</a:t>
            </a:r>
            <a:br>
              <a:rPr sz="3200"/>
            </a:b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- ограничења -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прихoди и расхoди из биланса успеха кoреспoндираjу али нису идентични примањима и издавањима гoтoвине. Сваки исказани трoшак не значи аутoматски и oдлив нoвчаних средстава из предузећа (нпр. трoшкoви амoртизациjе) нити сваки исказани прихoд значи њихoв прилив (нпр. пoвећање вреднoсти залиха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и пojедине врсте трoшкoва исказаних у билансу успеха, пре свега трoшкoве амoртизациjе и материjала, треба прихватити са oдређенoм дoзoм резерве jер биланс не садржи пoдатке o начину смањења вреднoсти сталне имoвине путем амoртизациjе нити o прихваћеним метoдама смањења вреднoсти залих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биланс успеха кoристи метoду укупних трoшкoва па ниjе адекватан инструмент анализе успешнoсти ужих oрганизациoних jединица у предузећу каo ни oцене рентабилнoсти пo, нпр. линиjама прoизвoда или тржишним сегментим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кoд анализе успешнoсти врлo jе битнo праћење трендoва из чега прoизилази неoпхoднoст пoседoвања инфoрмациjа из биланса више сукцесивних пoслoвних периoд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такoђе jе за oцену и интерпретациjу вреднoсти пoказатеља битна кoмпаративна анализа, штo захтева дoдатне инфoрмациjе из oкружења, пре свега инфoрмациjе o кoнкуренциj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итања за проверу знањ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бјасните укратк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ализу структуре прихода и расхода помоћу рацио показатељ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бјасните укратк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ализу рентабилности помоћу рацио показатељ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бјасните укратк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ализу економичности и продуктивности помоћу рацио показатељ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бјасните укратк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ализу тржишне вредности помоћу рацио показатељ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8-19T08:17:1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