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481-B598-469D-BA1C-C48A5BECD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DE6A-D720-4EA3-94C1-D893DED687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1CF-505A-44C6-AA01-9EAE9BDD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D9E-7659-4463-B86C-362019B2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B47-E5D5-4DCA-982C-AD5E9F32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787-B54D-45FE-A6FD-D903EEDC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09CA-B1F3-4B6F-BBF5-12F765CD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A5E7-7E33-4E91-AA6E-5D807F7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6259-09FC-4E19-B82A-0FA25872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0151-9903-4666-AC56-BFE97241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1EBB-ADCA-4F78-A3AA-78F34757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53BA-2CCD-4C75-B93F-6720D22B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96B2-3106-4604-B8CC-43358A8A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B72-AFA4-4D01-B0FF-656E336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E004-52C9-4F4A-A9D5-E06D02E4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004A-257C-416C-B591-12AE18B2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8DB1-633D-4D14-8FEF-C2A20EC9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E174-2C67-4314-B8BD-A512FCC6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FB8E-9CD9-46DE-BE77-9E86DDB9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47C-9EBC-462D-A442-C221F15C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AE4-76B5-482F-8167-82E4C8B0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2C3-D020-4FED-A4F2-59793F04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C29-0A0A-48FD-AB16-1D1B16B8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B85-AC05-4403-85D6-7DC438F3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FDF-0E7A-48AA-AAAB-1996B9B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A13-41CB-4C5F-A974-D0C16C9D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B1FF-47B4-4C67-9F57-52F851A358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4CDD-1C7F-472B-A8F8-773EE025FC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vesna.pasic@fmz.edu.rs" TargetMode="External"/><Relationship Id="rId3" Type="http://schemas.openxmlformats.org/officeDocument/2006/relationships/hyperlink" Target="mailto:vesna.pasic@fmz.edu.rs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esna.pa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07: Основе рацио анализе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07: Методологија рацио анализ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јам и циљ рацио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мисе рацио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тупак рацио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андарди интерпретације рацио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етодологија анализе финансијског положа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етодологија анализе успеш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јам и циљ рацио анализ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спитивање и оцена финансијске ситуације и успешности пословања привредних субјеката на бази сета сврсисходно одабраних и адекватно груписаних рацио броје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ацио број је квантификован однос две функционално повезане билансне позиције, изражен математичком формул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иљ рацио анализе је остваривање примарног циља управљања финансијама – обезбеђење континуитета оптималног финансирања уз очување финансисијске равнотеже која обезбеђује животну способност предузећа на дуги ро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анас је рацио анализа најчешће први корак у анализи финансијског стања и зарађивачке способности предузећа кој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обезбеђуjе податке о профитабилности, ефикасности управљања, солвентности и инвестиционом потенциjал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обезбеђуjе конзистентну базу података за праћење трендова перформанс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омогућава упоредивост индикатора успешности по организационим деловима предизећа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емисе рацио анализ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мисе на којима почива рацио анализу су следећа тврђењ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ваки рацио број мора бити релевантан индикатор односа који показу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цена приказаног односа подразумева анализу утицаја оба елемента датог рациа (и бројитеља и именитељ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За адекватну оцену је неопходно обезбедити временску упоредив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иликом анализе се мора узети у обзир међузависност рацио показатељ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 циљу прегледности, рацио бројеве треба приказати табеларно, груписане у хомогене групе у зависности од циља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цена и интерпретација рацио бројева врши се у односу на унапред постављене стандар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упак рацио анализ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тупак рацио анализе се одвија у више корак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бор рациа који ће се у анализи користи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истематизација изабраних показатеља у хомогене гру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спостављање адекватног редоследа група у складу са одабраном општом методологијом анализ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рачунавање показатељ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налитичка интерпретациjа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рачунатих показатеља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на oснoву стандард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кojи се мoгу кoристити алтернативнo или кoмплементарн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тандарди интерпретације рацио анализ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андарди интерпретаци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ентални стандарди самoг аналитичара, на oснoву личнoг искуства и oпсервациjе, кojи oдражаваjу његoвo сазнање o тoме шта се мoже сматрати задoвoљаваjући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ациo брojеви и прoценти кojи се засниваjу на регистрoванoj финансиjскoj и пoслoвнoj прoшлoсти предузећ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ациo брojеви и прoценти на бази текућег oперативнo-финансиjскoг плана, oднoснo прoшлoг искуства кoнкретнoг предузећа кoригoванoг за oчекиване прoмене у наступаjућем планскoм периoд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ациo брojеви и прoценти наjуспешниjих предузећа у датoj грани, oднoснo тзв. грански стандарди кojи су уjеднo и наjреалниjа oснoва кoмпарациjе успешнo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етодологија анализе финансијског положа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финансијског положаја подразумев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краткорочне финансијске равнотеж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дугорочне финансијске равнотеж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висине, структуре и динамике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висине, структуре и динамике капита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ефикасности управљ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етодологија анализе успеш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успешности пословања подразумев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висине, структуре и динамике расход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висине, структуре и динамике приход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висине и динамике међурезулта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рентабил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економич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продуктив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тржишне вред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нишите појам рацио анализе и наведите њен основни ци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поступак рацио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премисе на којима почива рацио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стандарде интерпретације рацио број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методологију анализе финансијског положај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методологију успешности посл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8T16:41:3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