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5546-DAED-4306-9FBB-5581459F7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4D5B-7944-45F1-9AFF-1103EB6A2EE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D0C0-B286-42CD-A5D1-962109AC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73EB-F880-4331-BE79-2C634E3C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3C5-DA7C-402E-823F-BA1CA7CE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D06-5B49-48E0-8A9F-CF54D08A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DD1F-F89A-4CDE-A8CA-B7B51DDC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F4F6-8675-4AF5-A1F6-3A064E0E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74B3-1A03-49B7-B68D-F65F18E1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9133-8D85-408D-AC20-6E2B0D9C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832F-93AC-49D2-A6EF-55F6EE34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5F06-D2FD-4057-B96D-5E4D496F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B456-C299-4018-B5DE-4FBF1318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B5D-AFD0-4EB9-BC8F-206E0D1F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646A-8D7C-4611-B5D4-F8220F41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A0E3-EC15-44F2-A77D-58715306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41B8-2594-40AC-93C5-3203888D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F83B-A89F-411A-A5BC-D155B5DE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3E9F-215D-46E3-BD8E-95FAD236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E39-1B06-471B-86CA-FF59ABF6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FC3-E616-42E8-A796-01B62FF9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50FD-1820-4064-A615-0870D1DF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19A-9165-4648-8530-1A0E9FD0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8AAA-7DAF-4930-B6BD-340AC81D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98D2-1957-4641-856D-A44E497F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15F-0F05-4D9D-A1F4-8A7FD238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380D-EE5A-4D1A-AA71-BFC3BA0EEB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C99C-D0CA-4A4B-821E-99CE13195D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ja.andrijasevic@fmz.edu.rs" TargetMode="External"/><Relationship Id="rId2" Type="http://schemas.openxmlformats.org/officeDocument/2006/relationships/hyperlink" Target="mailto:maja.andrijasevic@fmz.edu.rs" TargetMode="External"/><Relationship Id="rId3" Type="http://schemas.openxmlformats.org/officeDocument/2006/relationships/hyperlink" Target="mailto:maja.andrijasevic@fmz.edu.rs" TargetMode="External"/><Relationship Id="rId4" Type="http://schemas.openxmlformats.org/officeDocument/2006/relationships/hyperlink" Target="mailto:maja.andrijasevic@fmz.edu.rs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aeaea"/>
                </a:solidFill>
                <a:latin typeface="Times New Roman"/>
              </a:rPr>
              <a:t>АНАЛИЗА ПОСЛОВАЊ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аја Андријашев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maja.andrijasev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064/811-52-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Весна Пашић Том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v</a:t>
            </a:r>
            <a:r>
              <a:rPr b="0" lang="sr-Latn-RS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esna.pa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итања за проверу знањ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укратко садржину и значај анализе Извештаја о пр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ама на капитал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појам и значај Напомена уз финансијске извешта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ите и укратко објасните функције Напомена уз финансијске извешта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ите и објасните глобалне податке које треба да садржи Статистички анек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Анекс према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ирективи Е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Извештај о финансијском пословању управ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-1</a:t>
            </a:r>
            <a:r>
              <a:rPr b="1" lang="sr-Latn-R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Анализа додатних финансијских извештаја</a:t>
            </a:r>
            <a:br>
              <a:rPr sz="2800"/>
            </a:b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-12: Употреба података из додатних финансијских извешта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звештај о променама на капитал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апомене уз финансијске извешта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татистички Анек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звештај о финансијском пословању управ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звештај о променама на капитал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Раније – извештај о расподели резултата и покрићу губита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Регулисан МРС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врха – да пружи информације о променама на појединим облицима капитала које су настале у периоду између два биланса стања, а које су последица односа са власницима капитала и укупних добитака и губитака које је предузеће својим пословањем остварило током тог пери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ва обрасц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звештај о променама на капиталу у складу са МР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звештај о променама на капиталу за статистичке потреб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звештај о променама на капитал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280" y="1593720"/>
          <a:ext cx="8766360" cy="5353200"/>
        </p:xfrm>
        <a:graphic>
          <a:graphicData uri="http://schemas.openxmlformats.org/drawingml/2006/table">
            <a:tbl>
              <a:tblPr/>
              <a:tblGrid>
                <a:gridCol w="1648080"/>
                <a:gridCol w="752400"/>
                <a:gridCol w="598320"/>
                <a:gridCol w="749520"/>
                <a:gridCol w="674640"/>
                <a:gridCol w="523800"/>
                <a:gridCol w="898560"/>
                <a:gridCol w="749160"/>
                <a:gridCol w="749520"/>
                <a:gridCol w="747720"/>
                <a:gridCol w="67464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новн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пита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ку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кциј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та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пита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уп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пи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жи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ерве из доби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валор. резерв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бита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убита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куп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ње 31.12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равка фундаменталне грешке и промена рач.полити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иговано почетно стањ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већање (смањење) рев.ре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о добит (губитак) пери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даја (стицање) акциј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нос облика капита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подела дивиденд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плате (исплате) власн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ње на дан 31.12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звештај о променама на капитал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Исправка фундаменталне грешке и промена рачуноводствене политике – евидентира се као корекција почетног стања нераспоређеног добитка или губит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ромена ревалоризационих резерви – вредновање сталне имовине по фер вредности, учешће у капиталу у страној валути, консолидовање иностраних извешта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Нето добитак (губитак) периода – финансијски резултат обрачунског пери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родаја (стицање) сопствених акција – повећање капитала, односно његово смањење откупом сопствених ак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ренос са једног облика капитала на други – промена структуре капитала услед покрића губитка на терет резерви или основног капитала, формирања резерви из добити, уплате уписаног капитала ит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Расподела дивиденди – смањење доби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Уплате (исплате) власника – уплате или повлачење акција, удела, уло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9250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Напомене уз финансијске извештаје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одатни извештај који повећава информативну моћ финансијских извешта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нформације о материјално значајним ставкама финансијских извештаја, значајне за њихово разумевањ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адрж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Опште информације о предузећ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Изјава о усаглашености са МР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Основе састављања финансијских извешта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римењене рачуноводствене полити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Додатне информације за позиције приказане у финансијским извештаји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Допунске информа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Функциј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Интерпрета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Растереће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Допу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Статистички анекс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звештај који садржи статистичке и статусне подат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дређен Правилником о садржини и форми финансијских извешта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бавезан за сва правна лица и предузетни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пуњава се подацима за текућу и претходну годину који су подељени у 9 груп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Општи подаци о правном лиц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одаци о сталној имови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одаци о залиха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одаци о структури капита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одаци о акцијском капитал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одаци о потраживањима о обавеза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одаци о трошковима и расходи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одаци о приходи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Остали подац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773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Статистички анекс по 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IV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 директиви Е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етоде коришћене у процењивањ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азив и седиште предузећ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Број и номинална (или процењена) вредност уписаних акција током пословне год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Број и номинална (или процењена) вредност осталих акција по врста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Број и права инкорпорирана у цертификатима о партиципацији и конвертибилних обвезн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бавезе које доспевају у року дужем од 5 година и дата обазбеђе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купан износ свих обаве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ето износ пословних прихода по врстама и са географског аспек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осечан број запослених по категорија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ера у којој је утврђивање резултата било под утицајем процењивања претходних год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Разлике између трошкова и обавеза за порезе текуће и ранијих год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ате зараде члановима администрације, управе и надзорног одбо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ате аконтације, кредити и гаранције члановима управе, администације и надзорног одбо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звештај о финансијском пословању управе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моћ ‘’нерачуновођама’’ у разумевању финансијског положаја и зарађивачке способности предузећ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адржај према МРС-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Главни чиниоци успешности укључујући промене у окружењу и инвестициону политику предузећ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звори финансирања, задуженост и управљање ризик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наге и ресурси предузећа који нису приказани у Б.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 нашем Закону необавез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4-08-19T08:49:25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