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2A42-26DE-4970-A04D-CCA50380D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DD0E-0BD5-45B2-AA06-5CA3165C8AD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63BC-20CC-4679-92C9-066D12CC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9F1F-BC88-4898-B9DC-3A9197B5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C088-1222-4C10-B610-2D62C0E1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FA56-931C-4CA5-8ACA-C9E7FB70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FB6D-F2E9-4E9A-9A85-76DDBDF9D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3F71-A8C7-492A-BFD1-9ACE0C3A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4FD6-71A3-4057-9153-0EAECB38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0A7A-1CAD-4187-82D7-B3BC8720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4535-C58A-446A-A97D-6880950A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BFEF-7232-45BE-9466-68A213DF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DEA1-412A-4F6C-AA48-6902999D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0AA7-24BA-4341-9033-59BD97F9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844C-E078-4957-BC51-3340C936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15B6-EAF4-4235-8483-129006DC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8B42-6483-43EA-BB97-2395DE59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382B-6D84-46F7-9258-E04C4B43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D2AF-0D48-4013-AC14-9B9BEEDF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0812-6A69-466A-83B3-92F85379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87E1-DB5C-47E4-9C75-A7BD7596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313F-1F69-47F0-BF82-8936AEFA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528B-3098-4D78-A31B-FC6EA45B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0AF0-861F-479E-B388-71990488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A431-1AB4-4CCD-84F4-DEC9A8BB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1D93-7856-44B6-8BAB-1AF21ADB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18FD-7311-411A-B538-DB30BEA39B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A934-4B5A-4ACC-A733-4DEB4B6D0F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aja.andrijasevic@fmz.edu.rs" TargetMode="External"/><Relationship Id="rId2" Type="http://schemas.openxmlformats.org/officeDocument/2006/relationships/hyperlink" Target="mailto:vesna.pasic@fmz.edu.rs" TargetMode="External"/><Relationship Id="rId3" Type="http://schemas.openxmlformats.org/officeDocument/2006/relationships/hyperlink" Target="mailto:vesna.pasic@fmz.edu.rs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aeaea"/>
                </a:solidFill>
                <a:latin typeface="Times New Roman"/>
              </a:rPr>
              <a:t>АНАЛИЗА ПОСЛОВАЊ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Маја Андријашеви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maja.andrijasevic@fmz.edu.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064/811-52-1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imes New Roman"/>
              </a:rPr>
              <a:t>Весна Пашић Томи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vesna.pas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ic@fmz.edu.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-04: Увод у финансијску анализу</a:t>
            </a:r>
            <a:br>
              <a:rPr sz="2800"/>
            </a:br>
            <a:r>
              <a:rPr b="1" lang="sr-C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-04: Појам, врсте и методе финансијске анализ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јам и предмет финансијске анализ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Методе финансијске анализ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Врсте финансијске анализ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Циљеви финансијске анализ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Анализа биланса </a:t>
            </a:r>
            <a:br>
              <a:rPr sz="3200"/>
            </a:b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(Финансијска анализа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редставља део комплексне анализе, коме се придаје велика важност, јер она резултате пословања презентује у виду сета бројчаних, а самим тим и лако разумљивих показатељ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јам - подвргавање финансијских извештаја аналитичком испитивању, употребом одговарајућих метода и инструмената, у циљу испитивања и оцене финансијске ситуације и успешности послова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редмет, односно комплементарни извори података за финансијску анализу су  финансијскии извештај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биланса стањ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биланса успех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биланса токова готовине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извештаја о променама на капиталу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напомена уз финансијске извештај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Методе финансијске анализ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За избор инструмента не постоји јединствени критеријум који би подједн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ко био сврсиходан у сваком предузећу, без обзира на његову величину, старост, сложеност организационе структуре и делатност којом се бав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У пракси се најчешће примењују следеће метод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расчлањивање - парцијално испитивање појединачних сегменат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упоређивање -  компарација резултата добијених анализом са резултатима ранијих планских периода или са резултатима пословања других привредних субјекат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стандардизациј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- утврђивање одређених еталона, односно унапред дефинисаних стандард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елиминација - до закључака о одређеној појави се долази искључивањем утицаја других појав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Генерално правило - корист од добијених информација мора бити већа од трошкова њиховог добијањ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Врсте финансијске анализ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Критеријуми разврстава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Корисници анализ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редмет анализ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Начин анализ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ериод обухвата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Обухватност предме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Методе (инструменти) анализ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76560" y="20570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Врст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Интерна и екстер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а Б.С., Б.У., Б.Т.,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Квантитативна и квалитати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татичка и динамич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арцијална и комплекс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ступци, технике, припрема подата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Циљеви финансијске анализ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Основни циљ - пружање информација потребних за доношење финансијских одлука од стране корисника информациј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арцијални циљеви су усклађени са специфичним захтевима различитих корисник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Циљеви финансијске анализ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Интерни корисниц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Власници капитал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- инсајдер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Управа предузећ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словодни орга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индика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24280" y="1904760"/>
            <a:ext cx="4724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Захтеви интерних корисник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а одржања капитала (супстанц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а текуће ликвид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а развоја инвестициј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а успешности по сегменти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а акумулативне и репродуктивне способ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а алтернативних извора финансира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Циљеви финансијске анализ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5049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Екстерни корисниц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Власници капитала – аутсајдер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вериоц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Конкурен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словна удруже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Државни орга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индика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татист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038480" y="1981080"/>
            <a:ext cx="5105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Захтеви екстерних корисн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а резултата и расподеле и  анализа сигурности капита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а ликвидности и солвент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а рентабилности и финансијског положај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а конкретних предузећа, групација и гра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а ''сводних биланса'‘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а зарада и сигурности радних мес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арцијални аналитички показатељ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јасните појам и предмет финансијске анализ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ведите и укратко објасните најкоришћеније методе финансијске анализ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јасните врсте финансијске анализ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ратко објасните циљеве финансијске анализ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ter</cp:lastModifiedBy>
  <dcterms:modified xsi:type="dcterms:W3CDTF">2014-08-18T11:00:31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