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2734-F478-4187-8EEB-E14444AE1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7B25-0A64-4C9C-AB7A-465EB0153D6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996D-8E6F-4E2B-A0B8-C415F3A0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3DA3-06BB-4905-925F-29875C5F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CB9E-81DF-45DC-850D-0F7FB6E6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0401-1473-4B2E-AE54-1F2F3FE8F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018A-AAD0-4546-ACD1-757BB4E4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AF3E-6968-4D63-B584-912821A4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0EFD-7AE4-4936-914C-C6E223E2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A19F-FDC4-4D2B-AEAF-F402AD93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421A-5043-4D06-88D9-854AC8DC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5012-2161-4ED9-87CF-BE36D2EE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48A2-E1D6-48AC-BA62-06A1EF44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640E-C581-46E1-902C-6F464B08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215F-E4E4-4796-AA2A-23747A43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ACF2-D7AD-4F97-B643-C5B49068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904E-5EA9-438D-9849-56222BD3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3BBB-2466-4F18-AF1D-2AA3A0E0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1804-FB3D-4AA2-ACE6-B367D18A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B9ED-6241-4834-BF6D-456072CB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2D98-9C1C-45AA-AFD8-0F704661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266E-8883-49F1-B20C-A1BEA080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2CF3-3836-455A-AA68-0A44101A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1CBA-6A00-4F90-93E2-6F03CF95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B7D8-4AC1-4B52-BF12-22B4B068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8A94-C91B-4D43-B811-79E1926B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9B01-51F1-4230-9667-102B338AA1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B03F-3E83-41C2-88C4-225A34F154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aeaea"/>
                </a:solidFill>
                <a:latin typeface="Times New Roman"/>
              </a:rPr>
              <a:t>АНАЛИЗА ПОСЛОВАЊ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Маја Андријашеви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ja.andrijasevic@fmz.edu.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064/811-52-1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Times New Roman"/>
              </a:rPr>
              <a:t>Весна Пашић Томи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Times New Roman"/>
              </a:rPr>
              <a:t>vesn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sr-Latn-RS" sz="2000" spc="-1" strike="noStrike">
                <a:solidFill>
                  <a:srgbClr val="ffffff"/>
                </a:solidFill>
                <a:latin typeface="Times New Roman"/>
              </a:rPr>
              <a:t>p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c@fmz.edu.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-14: Анализа елемената рада </a:t>
            </a:r>
            <a:br>
              <a:rPr sz="2800"/>
            </a:br>
            <a:r>
              <a:rPr b="1" lang="sr-C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-14:Анализа кадрова, средстава за рад и предмета рада.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а основних средста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а материја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а кадров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Анализа елемената рад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Често маргинализован аспект анализ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лазна основа планирања финансијских ефеката коришће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Указују на узроке евентуалних поремећаја пословне активност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Обухват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у основних средста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у материја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у кадров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Анализа основних средстав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Рандман основних средстава - принос (учинак) који се остварује употребом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лужи за праћење физичке способности основних средстав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Најчешће се изражава путем три индикатор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Однос укупне производње и укупних основних средста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Однос укупне производње и опрем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Однос укупне производње и остварених машинских сат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Величина и структура основних средстава – тренутна и перспективна величина и састав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тепен истрошености основних средстава – степен истрошености је однос отписане и набавне вредност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(остатак до 100% указује на степен употребљивости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тепен коришћења капацитета основних средстава – утицајни фактор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Анализа материјал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Оптимална снабдевеност предузећа материјалом и његово економично трошење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а снабдевеност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а аспекта извршења плана набавк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а аспекта политике добављач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а аспекта политике залих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а аспекта места набавки и канала дистрибуциј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а аспекта услова набавк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а трошењ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Вредносни фактор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Количински фактор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Квалитативни фактор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Анализа кадров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Основни интелектуални потенцијал предузећа који представља покретачку снагу која осталим факторима процеса рада даје сврху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а величине и структуре радног колектив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Усклађеност са расположивим средствима и општим условима послова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Интерни и екстерни утицајни фактор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Краткорочна и дугорочна анализа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Јачање радног колектива кроз смањење флуктуац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а коришћења фонда радног времен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ланирања потребног броја радника за извршење планираног обима пословне активност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Испитивање квалитета коришћења радног времен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итања за проверу знањ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јасните укратко поступак и циљ анализе основних средста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јасните укратко поступак и циљ анализе материја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ратко објасните анализу снабдевености предузећа материјало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ведите и укратко објасните факторе који утичу на економичност трошења материја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јасните укратко циљ и начин анализе кадро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јасните појам флуктуације и наведите индикаторе који се користе у њеној анализ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ратко објасните испитивање квалитета коришћења радног време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ter</cp:lastModifiedBy>
  <dcterms:modified xsi:type="dcterms:W3CDTF">2014-09-03T08:36:10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