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A2F7-F37E-4397-A528-E390618F3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AB6A-715A-4C6A-AE66-3187C19D9D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EE0-DDB9-420A-B60F-2730C5EC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50C-191F-416C-8195-CA8839B5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31D-CA52-4F1C-B413-D917E709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B8A-69D8-412D-B1DC-7C87663B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93AB-71E9-4E8E-AA89-41073FD3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8102-AD45-4640-BDAF-EF6C3995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6BAE-D7BD-4C44-9BD7-667995E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FA9F-F78E-40E3-881E-586961D7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7A98-B512-4410-A933-CDF81B0A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A0EB-7780-4D91-89B4-C7B7C300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C062-7C29-4F1C-AC18-A7CC5F1F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A8D-A00B-454D-A726-C2B79FBB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4976-E41B-4F23-8DFD-4937F70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4724-EA8C-4135-879C-A34491B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0220-582B-4E0B-BBCA-B8884CE3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44D1-ADC0-4977-A0E0-0A01F437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8280-6875-4F44-9F01-ED85E082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9D1-9FB0-4A7E-9AFB-AA9AC99D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D4D-F5D1-473E-B15D-DEDA0CCB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611-87C4-4051-A394-480C6F70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1CD-1A7A-46D4-9AE8-668ECEE5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C10-9192-40FA-BCD3-FBEF20B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439-C112-44FA-AE75-29CD921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911-D15C-4D1C-A72E-36CA2409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A18-0453-4EDD-B546-EDAF80903A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CEAE-DC8C-4C4C-87B7-2FB02066D0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maja.andrijasevic@fmz.edu.rs" TargetMode="External"/><Relationship Id="rId3" Type="http://schemas.openxmlformats.org/officeDocument/2006/relationships/hyperlink" Target="mailto:maja.andrijasevic@fmz.edu.rs" TargetMode="External"/><Relationship Id="rId4" Type="http://schemas.openxmlformats.org/officeDocument/2006/relationships/hyperlink" Target="mailto:maja.andrijasevic@fmz.edu.rs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</a:t>
            </a: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Биланс токова готовине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(индиректна метода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ОКОВИ ГОТОВИНЕ ИЗ ПОСЛОВНЕ А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обитак пре опорези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мортизација (+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асходи камата (+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урсне разлике – негативне (+), позитивне (-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омене на залихама – смањење (+), повећање (-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омене у потраживањима – смањење (+), повећање (-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омене у обавезама – смањење (-), повећање (+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лаћене камате (-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лаћени порези из добити (-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иливи од премија (+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ето прилив (одлив) готовине из пословне а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ОКОВИ ГОТОВИНЕ ИЗ АКТИВНОСТИ ИНВЕСТИР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новчаним токовим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иљ анализе је оценити способност предузећа да ствара готовину и oбезбедити пoдлoгу за сагледавање и oцену садашње вреднoсти будућих нoвчаних тoкo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 основу њега се планови новчаних токова који антиципирају будућа примања и издавања која ће се одразити на постојеће стање, односно салдо готовин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употреби с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билансни (статички) метод планирања код кога се предвиђање врши интерполацијом очекиваног обима пословне активности и њему припадајућих прихода и расхода (пројектовани Б.С. и Б.У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динамички метод планирања код кога се примања и издавања готовине апроксимирају из периодичних планова појединих функција и организационих делова предузећ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План прилива и доли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План дефицита и суфици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План задуживања и отплат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нишите појам НОФ-а и објасните начин израчунавања његове вис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поступак и циљ анализе НОФ-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поступак и циљ анализе Извештаја о токовима укупних пословних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те начине извештавања о токовима готов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поступак и циљ анализе Извештаја о новчаним токов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10: Анализа токова финансијских средстава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10: Анализа токова новчаних, обртних и укупних средстава</a:t>
            </a: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штај о токовима нето обртних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штај о токовима укупних финансијских (пословних)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вештај о новчаним токов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токова финансијских средстав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јам финансијских средстава, чије је кретање предмет ове анализе, може се на различите начине дефинисати, па се у пракси срећу различити извештај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 токовима укупних пословних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 токовима нето обртних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 токовима готов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 токовима ликвидних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 токовима обртних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емају опште прихваћену садржину и фор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токовима нето обртних средстав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езује се за златно билансно правило у ширем смисл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ефинише као вишак дугорочних извора који, након финансирања сталне имовине, преостаје за финансирање неког дела обртне имовине (пре свега залих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струмент је динамичке финансијске анализе јер се на основу његових варијација у низу сукцесивних обрачунских периода могу сагледати тенденције у развоју финансијске ситуације предузећ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аријације НОФ-а су промене у његовој висини на крају у односу на почетак пословног периода, које су последица промена на сталној имовини и/или дугорочним изворим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а анализу се саставља табеларни преглед који садржи висину и промене НоФ-а у низу сукцесивних обрачунских периода, и податке о променама на позицијама које са њим кореспондирају – дугорочних извора, сталне имовине, залиха и обртних средстава.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токовима нето обртних средстав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Р.бр                      Назив                                             1.год.      2.год.      3.год ...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Сопствени капита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Дугорочна резервисањ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Дугорочне обавез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4.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Укупно дугорочни капита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Стална имов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6.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Нето обртни фон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7. 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Варијације НОФ-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Индекс раста НОФ-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Индекс раста дуг. Капита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Индекс раста имобилизациј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Залих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Индекс раста залих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Обртна имов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Индекс раста обртне имови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Степен покрића залиха НОФ-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Степен покрића ОбС НОФ-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токовима укупних финансијских (пословних) средстав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 посебној методологији састављен извештај који указује на последице дејства пословних операција на финансијску ситуациј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бухвата промене вредности позиција Б.С. у два различита временска тренутка којима се реконструиише правац и квантитет кретања укупних пословних средста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а разврставање разлика на позицијама биланса на почетку и крају посматраног периода важе следећа прав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арактер извора имају сва повећања позиција пасиве и сва смањења позиција акти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арактер употребе имају сва смањења позиција пасиве и сва повећања позиција акти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тичка интерпретација оваквом методологијом састављеног извештаја врши се у контексу хоризонталних правила финансирања, пре свега златних билансних чиме се долази се до информација о дугорочној финансијској равнотеж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токовима укупних финансијских (пословних) средстав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МПАРАТИВНИ БИЛАНСИ СТ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тврђивање разлика у вред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сновних билансних пози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РАДА БИЛАНСА ТО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 следећим правил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ПОТРЕБА СРЕДСТАВА                   ИЗВОРИ СРЕД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повећање позиција активе                   -смањење позиција акти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смањење позиција пасиве                    -повећање позиција паси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НАЛИЗА БИЛАНСА ТО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472428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472428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2590920" y="4191120"/>
            <a:ext cx="12189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5334120" y="4114800"/>
            <a:ext cx="12189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895480" y="5410080"/>
            <a:ext cx="19814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5105160" y="5334120"/>
            <a:ext cx="19047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звештај о новчаним токовим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Регулисан је Међународним рачуноводственим стандардима и Законом о рачуноводству и ревизији и представља обавезан део годишњег обрачу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Његова анализа је усмерена на тумачење и oбразлoжење висине и прoмена рациo брojева и нетo oбртнoг фoнда, на oснoву кojих се извлачи закључак o финансиjскoj ситуациjи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oбиjа се пoсредним путем – специфичним аранжирањем пoдатака кojи су већ садржани у кoмпаративним билансима стања и билансу успех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рађује се директном и индиректном мето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Биланс токова готовине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(директна метода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ОКОВИ ГОТОВИНЕ ИЗ ПОСЛОВНЕ 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лив готовине из пословне 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длив готовине из пословне 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ето прилив (одлив) готовине из пословне 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ОКОВИ ГОТОВИНЕ ИЗ АКТИВНОСТИ ИНВЕСТИР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лив готовине из активности инвестир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длив готовине из активности инвестир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ето прилив (одлив) из активности инвестир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ОКОВИ ГОТОВИНЕ ИЗ АКТИВНОСТИ ФИНАНСИР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рилив готовине из активности финансир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Одлив готовине из активности финансир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ето прилив (одлив) готовине из активности финансир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ЕТО ПРИЛИВ (ОДЛИВ) ГОТОВ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Готовина на почетку пери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ГОТОВИНА НА КРАЈУ ПЕРИ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9T08:25:5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