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2134-65BF-4F35-B471-8940FC822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7826-E6F6-44F6-8125-7FE03D4463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08D-373B-4AE3-A156-B345378D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DEB-600D-4CA4-A1A6-EBD980C8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206-CDDC-4578-AFAB-34CF3C23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2F5-3B84-4EE6-9AD3-46034B96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BDCC-169E-4AF7-AF4C-38FCCE2A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B346-983E-4567-BFB9-793F863C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7AB3-7EBF-4712-94DA-B58E6F83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DC71-DB93-487E-A763-90CCB2D3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26F2-5325-4198-9B0D-A153903C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40DE-8B85-48B4-A4EC-3D079A9C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7B3A-52C1-458D-BDD2-5F2EA77B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7AF-4130-4AEA-8767-E79B94FE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4866-1F5F-468D-87D2-A9AA4609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BCD1-22D4-4CDF-AE41-D88253B6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2947-BB02-4298-AC0F-CE41D37E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BC1A-C6EA-442F-9443-B94F0D17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68DB-C5E5-495C-9856-92BD9EA2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72A-4AB3-46AA-89A2-CA5F5DAD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366-6BCC-451B-A3C6-6229FE77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024-9B2A-4426-B8E4-A0EEE801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369-873B-40AD-ACC6-12EB394C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728-FC75-4BB9-BB4D-83F2CF00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90C-E5AB-4ADD-AA6C-4589AF69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F1C-CA34-4785-8D5B-C6FF6DAD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950E-9A67-48ED-8F2F-ED1E132C71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6D8E-51B2-4D84-83A2-C8B6778B25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ja.andrijasevic@fmz.edu.rs" TargetMode="External"/><Relationship Id="rId2" Type="http://schemas.openxmlformats.org/officeDocument/2006/relationships/hyperlink" Target="mailto:vesna.pasic@fmz.edu.rs" TargetMode="External"/><Relationship Id="rId3" Type="http://schemas.openxmlformats.org/officeDocument/2006/relationships/hyperlink" Target="mailto:vesna.pasic@fmz.edu.rs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aeaea"/>
                </a:solidFill>
                <a:latin typeface="Times New Roman"/>
              </a:rPr>
              <a:t>АНАЛИЗА ПОСЛОВАЊ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аја Андријашев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maja.andrijasev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064/811-52-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Весна Пашић ТТом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vesna.pa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-06: Правила финансирања у ф-ји финансијске анализе</a:t>
            </a:r>
            <a:br>
              <a:rPr sz="2800"/>
            </a:b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-06: Примена хоризонталних и вертикалних правила финансирања у анализ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ертикална правила финансир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Хоризонтална правила финансир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имена у финансијској анализ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равила финансирањ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едстављају одређене норме, односно стандарде за однос појединих билансних позиција или група, које се и данас користе од стране аналитичара као помоћно средство у анализи финансијске ситуације предузећ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обичајено се деле н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ертикала правила финансирања – која су у функцији сигурности,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Хоризонтална правила финансирања – која су у функцији ликвидност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Вертикална правила финансирањ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ертикална правила финансирања имају за циљ да ''нормирају'' структуру капитала и као таква тангирају само пасиву биланса ст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о су следећа правил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авило за однос сопственог и туђег капитала (два приступа – први инсистира на фиксирању односа између два аспекта власништва на 2:1 у корист сопственог капитала, док се други задовољава постављањем доње границе од 1: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авило за однос резерви и номиналног капитала (захтева да однос резерви према номиналном капиталу буде 1:1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авило за однос дугорочног и краткорочног капитала (не прописује тачно фиксиран однос ове две врсте капитала, већ захтева да он буде усклађен са глобалном структуром имовине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Хоризонтална правила финансирањ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мају за циљ стандардизацију односа између појединих делова имовине и капитала и као таква тангирају и активу и пасиву биланса стањ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о су следећа правил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Златно банкарско правило (''кредит који може нека банка дати а да при том не дође у опасност у погледу испуњења својих обавеза, мора одговарати кредити који банка ужива и то не само по износу него и по квалитету кредита.'‘)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Билансна правила финансирања (у ужем смислу  захтева да имобилизације буду у целости финансиране из дугорочног, а обртна имовина из краткорочног капитала, а у ширем смислу захтева да, поред имобилизација и део обртне имовине који је трајно везан у предузећу буде финансиран из дугорочног, а остатак обртне имовине из краткорочног капитал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авила ликвидности (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curent-ratiо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захтева да однос обртне имовине и краткорочних обавеза буде 2:1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, а Acid-tes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Захтева да однос ликвидне имовине и краткорочних обавеза буде 1: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имена правила у финансијској анализ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дност правила финансирања је девалвирана чињеницом да су она орјентисана на парцијално посматрање проблематике финансијске структуре, као и чињеницом да се посматрањем и оценом сигурности само на основу односа појединих врста капитала не може ништа сазнати о развоју имовинске ситуације у будућ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е узимаjу у oбзир прирoду делатнoсти кojoм се предузеће бави, спoсoбнoст задуживања, степен склoнoсти ка ризику,као и остале  услове у којима компанија послу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итања за проверу знањ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тко објасните правило за однос дугорочног и краткорочног капит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тко објасните златна билансна прави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тко објасните правило за однос сопственог и туђег капит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тко објасните правила ликвид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4-08-18T16:25:49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