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6B11-6E61-4F8A-AC48-4FCFEEBF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245C-8778-4B9F-9FC8-F182178D29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8DC-C07D-4378-AE2F-12CF11E6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565-B419-435A-ABE1-C5F5EAA4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DF7-6BEC-4DD4-BE04-52776B2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BF0-B6C7-4D5D-A41E-A27D69DC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999A-89CC-41BB-BC36-CCC2BE1E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1AA-2F9C-4EA3-B295-AFE62FEE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A34-F3DD-4CAD-BC9F-631B288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577-365B-4E98-8385-569F3C7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11D-43D7-4ECC-896C-7B20C92B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CF80-7364-4BCF-A5D6-4335FC99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7C1-B8FA-40F9-A4E0-0A97752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0AE-8A5D-4C45-BF15-E71992C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C09-B83B-4966-80A9-097A86E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A170-DC5A-4314-B556-26627320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761E-9463-41E6-AC4B-18A4E3E3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17C-F7EE-409E-A6B9-47091ADE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E551-D06F-4FDF-8403-FCA2E416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CAF-63E2-4C89-AE29-47E165FE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D48-462C-4A24-81AA-01A6102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9E6-F62C-42F0-8E4C-06CB315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73D-1FA3-4FD7-A2A0-D1E4822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41F-6B67-4771-8199-C94993F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461-2FBD-4F6C-8F06-B6426BB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3D1-CAA3-43FA-AEC4-50ADC0B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93E-41ED-4B71-9FD4-1771D30B40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963D-D33C-4498-B4DE-AC56F5CFC4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.pasic@fmz.edu.rs" TargetMode="External"/><Relationship Id="rId3" Type="http://schemas.openxmlformats.org/officeDocument/2006/relationships/hyperlink" Target="mailto:vesna..pasic@fmz.edu.rs" TargetMode="External"/><Relationship Id="rId4" Type="http://schemas.openxmlformats.org/officeDocument/2006/relationships/hyperlink" Target="mailto:vesna..pasic@fmz.edu.rs" TargetMode="External"/><Relationship Id="rId5" Type="http://schemas.openxmlformats.org/officeDocument/2006/relationships/hyperlink" Target="mailto:vesna..pasic@fmz.edu.rs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a.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.pasic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абавна фун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набавне функције се врши са аспек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рганиз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терни аспект, у смислу наступа на тржишту набавк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терни аспект, у смислу поделе рада у оквиру послова набавк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ланирањ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дентификовање фактора наба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тврђивање послова наба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естирање реалности планирањ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звршења плана набавк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тинуирана анализа оптималности количина, броја и динамике набавк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оизводна функциј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дговорност производне функције је да коректно и на време извршава производне планове, што треба да резултира адекватним залихама готових производа, и да успешно комбинује релевантне факторе производње у циљу снижења просечних укупних трошкова по јединици произ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сто где се стиче конкурентна моћ кроз побољшање карактеристика процеса производње и призвода и услуг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опходан развој производне стратегије као интегралног дела пословне стратег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ормулисање производне стратегије подразумева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нализ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унутрашњег окружењ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расположивост ресурса, постојећа организациона структура, вештине и способности радне снаге, локација и старост постројења, врсте расположивих система контролисања квалитет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спољњег окружењ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конкуренциј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, купц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, економск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ословања, примењен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технологиј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и социјалн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оизводна ф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Добро управљање производњом захтева да свако од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редних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пет подручја одлучивања правилно функционишу али и да се добро употпуњују с осталим подручјим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вали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ц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апаци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Залих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адна сна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се такође може вршити са аспек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Организације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а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декватност производног програма и обима производње, број, груписање и редослед машина, степен коришћења капацитета, економски ефекат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Планирањ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претпоставке планирања, производни програм,реалност планирањ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Извршења план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(структура, квалитет и динамика производњ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одајна функциј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ови приступ управљања процесом продаје се огледа у управљању односом са купцима, продаји у тимовима, глобалном управљању кључним клијентима, фокусу на продуктивн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нсакциони приступ продаји је замењен концептом релационе продаје која узима у обзир потребе и жеље потрошача у процесу куповине и интеракцији продавац-купа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Једина је функција у предузећу чија се успешност мери преко прихода а не преко расхо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ркетинг заправо није прод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одајна ф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сновни задаци прода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нализа промена мотива и садржај тражње за производом/услуг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нализа глобалних кретања у понуди и тражњ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брада података и обликовање информација о структури домаће и стране тражњ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нализа и припрема капацитета за продају производа/услуг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алкулација цена по сегментима тржишта и уговор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према уговора о продаји, прикупљање, обрада и израда листе наруџб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брада приспелих информација од малопродаје и великопродаје и преношење информација производњи (развоју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према предлога промотивних активнос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зрада плана буџета наступа на тржишт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према улазних параметара за истраживање задовољства купца/корисн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нализа учинака продајне политике и одабира пословних партнер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едлог мера и активности за унапређење прод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нализа наплате потраживањ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одајна ф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роз анализу продајне функције треба обезбедити информације 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рганизацији продај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(с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епен централизације продајне функције, рационалност постојећих канала дистрибуцује, услови продаје и сегментирања тржишта, ефекти промотивних активности, реалност предвиђања на основу испитивања тржишта, оправданост постојећих залиха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ланирању продај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спитује лимитирајуће факторе продајне активности, попут капацитета производње, потенцијала тржишта и финансијске могућности предузећ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стварења плана продај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ачин и време реализације, одступања од плана, узроци, последице и одговорност)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задатке финансијске фун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се анализира у оквиру финансијске функције и који су циљеви тих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начине екстерног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начине интерног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портфолиа и циљ његовог форм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диверсификације портфоли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начин израчунавања очекиваног приноса портфоли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анализу набавне функције са аспекта њене организациј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анализу планирања у набав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основне поставке анализе производне фун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анализу организације прод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5; Анализа пословних функциј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4: Анализа набавне, производне, продајне и финансијске фун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 набав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производ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прод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финансијске фун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пословних ф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вљаjу 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вим моделима организацион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г дизајн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, али jе њихово место у структури различи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јчешћа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функционална подручj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абав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извод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да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страживање и развој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инансијска функциј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дговорност за прибављање, употребу и управљање изворима средстава, неопходним за финансирање пословне активности предузећ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даци финансијске функције се најчешће сврставају у две категор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марни зада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бављање средст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употреба средст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усклађивање рока имобилизације средстава са роковима расположивости изв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екундарни зада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испонирање нов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онтрола рационалне употре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ско планир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ска анали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нансијско извешта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инансијска ф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роз анализу финансијске функције треба обезбедити информације о стању и кретању, како структуре финансирања, тако и структуре инвестирања, у циљу процене ефеката инвестиционе и политике финансирања на ликвидност, солвентност и рентабилност пословања предузећ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литика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тврђивања цене појединих извора финансир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тврђивање просечне цену капитал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литика инвест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локација ограниченог капитала на алтернативне употреб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литика финанс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ена капитала од емисије и продаје обвезниц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је једнака дисконтној, односно каматној стопи која изједначава текућа нето примања предузећа из тог извора са садашњом вредношћу будућих издатака на име камате и отплате главнице, коригованој за очекивани ефекат пореза да доби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ена капитала од емисије преференцијалних акциј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се дефинише као дисконтна стопа која будуће издатке на име преференцијалне дивиденде изједначава са садашњом вредношћу примања готовине из овог изво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ена капитала од емисије обичних акциј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зависи од различитих токова дивиденди, односно модела ра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ена капитала насталог акумулирањем добитк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се најчешће дефинише као стопа приноса коју очекују да остваре држаоци акција на обичне акције предузећ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литика инвест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локација се обавља помоћу оперативног и плана капиталних улагањ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ртфолио представља скуп средстава у виду инвестиција који предузеће поседу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иљ формирања портфолиа је умањење релативног ризика комбиновањем различитих хартија од вред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портфолиа подразумева анализу приноса и анализу ризика портфоли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упан очекивани принос портфолиа се израчунава следећом једначином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Где ј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- удео -те хартије од вредности у портфолију (пондер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- очекивана стопа приноса на -ту хартију од вред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- број хартија од вредности у портфолиј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3124080" y="510552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κ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limUpp>
                              <m:e>
                                <m:r>
                                  <m:t xml:space="preserve">κ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литика инвестир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иверсификација портфолиа подразумева комбинацију више хартија од вредности чији се приноси крећу у различитим смеровима, чиме се смањује изложеност укупном риз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Њен ефекат зависи од степена корелације хартија од вредности које су укључене у портфоли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тицај диверсификације на смањење несистемског ризика је утолико већи, уколико је мања корелација између хартија од вредности у портфоли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ред несистемских, постоје и системски ризици који потичу из економског и политичког окружења инвеститора и везани су за функционисање тржишта капи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вакви ризици подједнако утичу на све врсте активе и не могу се избећи диверсификациј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абавна фунциј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четком осамдесетих година XX века набавни трошкови чинили су 40% укупних расхода предузећа, данас су они око  60% Уз то, стално се повећавају и логистички трошк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диционално схватање набавке, где је акценат на јефтиним добављачима, замењено је стратегијом која се заснива на квалитету и која се концентрише на развијање дугорочних односа с добављачима, на стварање партнерства, на непрекидно побољшање квалитета производа и снижавање трошк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дговорност набавне функ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бим и динамика набав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Цене набав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онтрола залих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9-03T08:53:4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