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649D-FB02-4919-8178-A54FD0C15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2C7F-5E46-4085-BEB6-0552B56B26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552-3826-423E-BD3D-50ACBBD1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177-2862-4E80-814B-8C4A1C71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192-1BEF-4FB2-854F-53EA2F71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826-46F1-45C7-AFFA-230E9F61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A02F-B607-4719-89BC-463C67AB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55D5-6620-4AB1-8FBC-758A23D7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480B-D008-46AA-BCFF-3C3FA347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0D66-C804-424B-B752-987007C9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F393-1DD7-4F55-9FAE-B2FC51B3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896A-39EF-463D-91B0-919C1773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D5A1-9CEF-423A-A264-164A8715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9B2-7FF6-4E53-900F-569645A3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2946-EC97-4D49-933A-C141C903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30B3-223F-479A-9D5F-2A8FFFA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0C2F-8226-4796-834F-B8F065F3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F3AA-4FC5-44D4-A04A-32951884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2766-20D5-4F11-9B29-FD1A754F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C6B-A95F-43BA-A0A6-0538408B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839-6A37-40EC-999B-E9D125B6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661-B03C-47B3-903F-7C99DF3B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E4C-8DEB-4C54-86C6-F35BADCD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D03-1AD7-4B8D-BB6D-74C1C243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FA9-9E7B-485E-B000-0AA442C9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EAC-BBD4-429D-A5C4-0ACB7221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1968-16AB-4301-8AB2-45E7EA2BBF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63C6-9114-4A41-A8C4-2D76B6EEC1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ja.andrijasevic@fmz.edu.rs" TargetMode="External"/><Relationship Id="rId2" Type="http://schemas.openxmlformats.org/officeDocument/2006/relationships/hyperlink" Target="mailto:maja.andrijasevic@fmz.edu.rs" TargetMode="External"/><Relationship Id="rId3" Type="http://schemas.openxmlformats.org/officeDocument/2006/relationships/hyperlink" Target="mailto:maja.andrijasevic@fmz.edu.rs" TargetMode="External"/><Relationship Id="rId4" Type="http://schemas.openxmlformats.org/officeDocument/2006/relationships/hyperlink" Target="mailto:maja.andrijasevic@fmz.edu.rs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imes New Roman"/>
              </a:rPr>
              <a:t>АНАЛИЗА ПОСЛОВА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ја Андријаше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maja.andrijasev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064/811-52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Весна Пашић Том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v</a:t>
            </a:r>
            <a:r>
              <a:rPr b="0" lang="sr-Latn-R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esna.pa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-1</a:t>
            </a:r>
            <a:r>
              <a:rPr b="1" lang="sr-Latn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Анализа специјалних биланса</a:t>
            </a:r>
            <a:br>
              <a:rPr sz="28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-13: Врсте специјалних биланса и специфичности њихове анализ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Оснивачки билан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Биланс промене правне фор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Биланс фуз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Биланс раздвај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анациони билан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Ликвидациони билан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Биланс ликвидности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орески билан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пецифичности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Начела специјалног важе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пецијални билан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стављају се нередовно у специфичним ситуација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омена положаја предузећа или околности које захтевају предузимање посебних м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рст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снивачки билан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Биланс промена правне форм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Биланс фуз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Биланс раздвај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Санациони билан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Ликвидациони билан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Биланс ликвид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Times New Roman"/>
              </a:rPr>
              <a:t>Специјални биланс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Оснивачки билан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Саставља се на основу инвент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На основу њега се врши упис предузећа у судски регист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Основ је за отварање пословних књи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Проблем вредновања имовине коју уносе оснивач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Биланс промене правне фор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Без промене власника – закључни биланс претходног постаје оснивачки биланс новог предузећ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Уз промену власника – саставља се завршни биланс на основу процењене вредности а затим се врши поравнање са власницима који иступају из предузећ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Биланс фуз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Свако предузеће саставља закључни биланс на основу којих се саставља биланс фуз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Важи клаузула о ретроактив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пецијални билан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Биланс раздвај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мовински биланс целине уз примену принципа билансирања по дневним цена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Биланси издвојених предузећа имају карактер оснивачких билан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анациони билан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Биланс оздрављењ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Састављају с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Биланс пре санације – основа програма оздравље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ојектовани биланс – предвиђање ефеката сана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кончани биланс – коначни ефекти спроведених ме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Ликвидациони билан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Гашење предузећа када санација не да очекиване резулта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стављају с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Биланс отварања санације – имовински положај предузећа уз коришћење ликвидационих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Крајњи биланс – новчана ликвидациона маса у активи и обавезе и капитал у пасив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пецијални билан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Биланс ликвиднос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тпунија слика о платежној способности предузећ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спостављање финансијске равнотеже као услова ликвид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орески билан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две основне функције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обезбеђење новчаних средстава за финансирање државних и друштвених потреб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обезбеђење реализације циљева економске политике земљ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пецијални биланси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461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пецифичности анализ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а аспекта предмет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– исказивање актуелне имовинске ситуа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а аспекта времена посматрањ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– статичка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а аспекта циљ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– информациона основа важних одлу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Начела специјалног важења – у зависности од циља специјалног биланс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чело апсолутне потпуности - захтева да у билансу буду обухваћени сви имовински делови и све обавез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чело актуелности - захтева да се процењивање билансних позиција врши по дневним вредностима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чело брижљивог прогнозирања - захтев да се утврде потребне и довољне информације за вредновање билансних позиција у будућност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чело ревидирања - захтев за накнадним испитивањем већ унетих билансних позиција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итања за проверу знањ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кратко биланс осни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кратко биланс промене правне фор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кратко биланс фуз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кратко биланс раздвај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кратко санациони билан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кратко ликвидациони билан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кратко порески и биланс ликвид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специфичности анализе специјалних биланс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и укратко објасните начела специјалног важе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8-19T08:58:3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