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5F89-81A1-447B-972F-FEA6DF2A1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E259-204D-4B15-9629-221050C528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1EA-1168-4D55-9C1E-4D15C3EF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64D-B19E-4FF6-B454-FE5C5592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278-21E9-411D-B597-3C25D508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898-433A-456D-A26F-2F089058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309D-853F-4B4B-B0C4-B1001774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7410-F7A2-4EFD-BAB2-F8333C69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7288-D3C6-4AF6-85F2-DC046D06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D56C-9C83-48B3-9CFA-6712AB4B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BE22-41A8-409A-A119-86D4F013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67AF-E8DE-4069-9F66-B0A26522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33FD-0D06-479E-A947-948A071D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5C8-C25D-49C8-91DB-86168132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B0C3-5A8A-4E3B-8296-C52B0AF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1175-958C-4FC5-985B-E9D6834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DE04-C3C1-4A0A-BF7D-E538DB4F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9B58-EAE2-4451-9A4F-7372325A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8F82-4163-4DB8-AC7D-9B5FB1B4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B81-E6FB-44EA-BCF2-FB3B4791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5FA-BFDE-4310-83EF-F5C1324C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AE1-2943-4E88-94FF-BB592811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021-869B-4EAC-9FAC-5480A672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375-5AFB-480F-8B98-13E5671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785-59DC-4E9E-B0EC-890CC133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AF5-5337-4047-B474-DB08DB18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2C24-643E-4E43-AE2D-B4795EB635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2A8A-91E8-4738-B621-C450A74B5C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ja.andrijasevic@fmz.edu.rs" TargetMode="External"/><Relationship Id="rId2" Type="http://schemas.openxmlformats.org/officeDocument/2006/relationships/hyperlink" Target="mailto:vesna.pasic@fmz.edu.rs" TargetMode="External"/><Relationship Id="rId3" Type="http://schemas.openxmlformats.org/officeDocument/2006/relationships/hyperlink" Target="mailto:vesna.pasic@fmz.edu.rs" TargetMode="External"/><Relationship Id="rId4" Type="http://schemas.openxmlformats.org/officeDocument/2006/relationships/hyperlink" Target="mailto:vesna.pasic@fmz.edu.rs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ић 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v</a:t>
            </a: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esna.pa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aeaea"/>
                </a:solidFill>
                <a:latin typeface="Times New Roman"/>
              </a:rPr>
              <a:t>Финансијски ризи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ејство финансијског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leverage–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на стопу приноса на сопствена средства зависи од два битна фактор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Апсолутне разлике између стопе приноса на укупна средства и просечне каматне стопе као цене позајмљених изв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Структуре капитала, односно релативног учешћа дугова у укупним изворима финансир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еба имати у виду да и финансијски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leverage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може имати негативно дејств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За тестирање интензитета дејства финансијског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leverage–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најчешће се користи тачка индиференције финансирања која представља онај ниво активности на коме су стопе приноса на укупна и сопствена средства једнаке, без обзира на компонзицију извор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купан ризик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ложено дејство пословног и финансијског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leverage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-а назива се комбиновани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leverage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и одражава изложеност предузећа тоталном, укупном ризику, односно доводи у директну међузависност стопу приноса на сопствена средства са променом у обиму активности, односно приходима од продај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мбиновани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leverage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е анализира у границама очекиваних осцилација обима продаје према доњој граници рентабил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ада је доња граница рентабилности лоцирана близу горње границе физичког обима капацитета и када обим пословне активности испољава знаке осетне нестабилности, препоручује се опрезније коришћење финасијског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leverage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-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1676520" y="3657600"/>
                <a:ext cx="4800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Фактор                       Фактор                          Фактор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омбинованог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  пословног          x      финансијског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leverage-а              leverage-a                     leverage-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итања  за проверу зн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објасните врсте риз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механизам дејства пословног Leve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укратко механизам дејства финансијског Leve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појам индиференције финанс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1</a:t>
            </a:r>
            <a:r>
              <a:rPr b="1" lang="sr-Latn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Анализа ризика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-11: Анализа пословног, финансијског и укупног ризика и дејства leverage-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овни риз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нансијски ризи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упан риз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ризи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јам ризика се односи на неизвесност у погледу очекиваног исхода пословне активност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рсте ризика: пословни, финансијски, укуп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чин мерења ризика -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Leve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ловни ризик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дражава присутну неизвесност у погледу очекиваног пословног добит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косницу дејства овог ризика чине фиксни трошкови који су нееластични на краткорочне осцилације у обиму пословне а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ловни leverage процењује ефекте пословања уз присуство фиксних трошков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казује однос процентуалне промене пословног добитка која настаје услед процентуалне промене у обиму продај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ловни ризик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Трошкови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     Прихо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(Приходи)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Мртва та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рентабилности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Варијабилни трошков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Фиксни трошков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бим производњ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1.Приходи од продаје: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400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2.Варијабилни трошкови: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200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3.Маргинални добитак: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200 (1 – 2)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4.Фиксни трошкови: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5.Пословни добитак: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100 (3 – 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6"/>
          <p:cNvSpPr/>
          <p:nvPr/>
        </p:nvSpPr>
        <p:spPr>
          <a:xfrm flipV="1">
            <a:off x="2209680" y="19810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2209680" y="434340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8"/>
          <p:cNvSpPr/>
          <p:nvPr/>
        </p:nvSpPr>
        <p:spPr>
          <a:xfrm flipV="1">
            <a:off x="2209680" y="1981080"/>
            <a:ext cx="426744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2209680" y="373392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2209680" y="2666880"/>
            <a:ext cx="441972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5049720" y="5105520"/>
                <a:ext cx="40737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Фактор пословног leverage-a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Times New Roman"/>
              </a:rPr>
              <a:t>Пословни ризик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.Приходи од продаје: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400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500 (400 x 25%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2.Варијабилни трошкови: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250 (200 x 25%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3.Маргинални добитак: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200 (1 – 2)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25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4.Фиксни трошкови: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5.Пословни добитак: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00 (3 – 4)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еба имати у виду да велики фактор пословног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leverage–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значи да сразмерно мале промене у обиму продаје изазивају осетне флуктуације пословног добитка, што претпоставља и сразмерно висок степен пословног ризи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2362320" y="5334120"/>
                <a:ext cx="525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оња граница рентабилн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Фиксни трошков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Варијабилни трошков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Приходи од продаје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Финансијски ризик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етерминисан је неизвесношћу будућег нето добитка, као приноса на сопствена сред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Његово дејство је опредељено присуством фиксних расхода финансирања који се не могу прилагодити краткорочним флуктуацијама пословног добит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тензитет дејства зависи од степена којим су расходи камата покривени из пословног добит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Финансијски ризик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.Приходи од продаје: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400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500 (400 x 25%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2.Варијабилни трошкови: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250 (200 x 25%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3.Маргинални добитак: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200 (1 – 2)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25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4.Фиксни трошкови: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5.Пословни добитак: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00 (3 – 4)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_______________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6. Расходи камата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40 (400 x 10%)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4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7. Порез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 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8. Нето добитак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60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828800" y="5105520"/>
                <a:ext cx="586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Фактор финансијског leverage-а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Пословни добитак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Нето добитак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Times New Roman"/>
              </a:rPr>
              <a:t>Финансијски ризик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а почетном обиму а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акон повећања обима а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1454040" y="2430360"/>
                <a:ext cx="6546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топа приноса на укупна средства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Пословни добитк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Просечна пословна средств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1371600" y="3124080"/>
                <a:ext cx="6705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топа приноса на сопствена средства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Нето добитак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Просечна сопствена средств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447920" y="4343400"/>
                <a:ext cx="6629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топа приноса на укупна средства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Пословни добитк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Просечна пословна средств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5"/>
              <p:cNvSpPr txBox="1"/>
              <p:nvPr/>
            </p:nvSpPr>
            <p:spPr>
              <a:xfrm>
                <a:off x="1447920" y="5105520"/>
                <a:ext cx="6629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топа приноса на сопствена средства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Нето добитак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Просечна сопствена средств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8-19T08:40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