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6877A-F699-41D1-BEB5-1CDB7F2A6B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2D5BD-808B-4DB8-A45B-BDABD6183DAB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58C8-3DDA-47CA-A72C-6BF7A180A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1CCE-017F-435C-B808-11AED5E2A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161A-A404-4476-BFB0-ED783A0AA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9ED0-19EB-428A-A86E-BBF184C2B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69650-90EA-4EC2-A86A-E08495983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314DA-B3AE-49BE-8A29-D3C35EBD9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7BA7E-BBC8-439E-A84A-81828820D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6E540-DD63-46C7-969E-CB9499EF7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0D233-890E-460F-A676-7F150E683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7CF6F-43ED-4ED8-A079-EE1B22A82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8236E-3C73-4F4F-AF9E-69289F36B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F886-A40F-42FA-853C-4BC9C9501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B34EC-F7E9-4084-BF6F-149344294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DFE2B-58B1-4C2B-8D03-96647EB62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1A266-0AFA-4B0D-894D-D440A8866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4C711-0A33-4A12-ABAC-13A3FECFE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0C8C2-EE7E-47DF-8DEF-784A6EB1A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C395-D295-4AEC-AF47-B5EAFEF51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CDB7-C167-4CE5-8FE1-AB57870CA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36E0-C385-483E-88D7-7BEC432D9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F22F-AB52-4FC2-A07A-068252B7E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FDCC-F1B0-4A21-A909-5608FF799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2453-D92F-44DA-9932-E5D32B88B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F8BE-1182-46B7-8FB5-DD6CDC364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>
                <a:gd name="textAreaLeft" fmla="*/ 0 w 8254800"/>
                <a:gd name="textAreaRight" fmla="*/ 8255160 w 825480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>
                <a:gd name="textAreaLeft" fmla="*/ 0 w 885960"/>
                <a:gd name="textAreaRight" fmla="*/ 885960 w 88596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>
                  <a:gd name="textAreaLeft" fmla="*/ 0 w 557280"/>
                  <a:gd name="textAreaRight" fmla="*/ 557640 w 55728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>
                  <a:gd name="textAreaLeft" fmla="*/ 0 w 400320"/>
                  <a:gd name="textAreaRight" fmla="*/ 400680 w 4003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793A4-0811-41B3-9BE7-62FB2B5237F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>
                  <a:gd name="textAreaLeft" fmla="*/ 0 w 8254800"/>
                  <a:gd name="textAreaRight" fmla="*/ 8255160 w 825480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>
                  <a:gd name="textAreaLeft" fmla="*/ 0 w 885960"/>
                  <a:gd name="textAreaRight" fmla="*/ 885960 w 88596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03A18-DBDF-43DF-B813-BC4860F3CAB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maja.andrijasevic@fmz.edu.rs" TargetMode="External"/><Relationship Id="rId2" Type="http://schemas.openxmlformats.org/officeDocument/2006/relationships/hyperlink" Target="mailto:vesna.pasic@fmz.edu.rs" TargetMode="External"/><Relationship Id="rId3" Type="http://schemas.openxmlformats.org/officeDocument/2006/relationships/hyperlink" Target="mailto:vesna.pasic@fmz.edu.rs" TargetMode="External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eaeaea"/>
                </a:solidFill>
                <a:latin typeface="Times New Roman"/>
              </a:rPr>
              <a:t>АНАЛИЗА ПОСЛОВАЊ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Маја Андријашевић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cc"/>
                </a:solidFill>
                <a:uFillTx/>
                <a:latin typeface="Times New Roman"/>
                <a:hlinkClick r:id="rId1"/>
              </a:rPr>
              <a:t>maja.andrijasevic@fmz.edu.r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064/811-52-18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Times New Roman"/>
              </a:rPr>
              <a:t>Весна Пашић Томић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 u="sng">
                <a:solidFill>
                  <a:srgbClr val="ffffcc"/>
                </a:solidFill>
                <a:uFillTx/>
                <a:latin typeface="Times New Roman"/>
                <a:hlinkClick r:id="rId2"/>
              </a:rPr>
              <a:t>vesna.pas</a:t>
            </a:r>
            <a:r>
              <a:rPr b="0" lang="en-US" sz="2000" spc="-1" strike="noStrike" u="sng">
                <a:solidFill>
                  <a:srgbClr val="ffffcc"/>
                </a:solidFill>
                <a:uFillTx/>
                <a:latin typeface="Times New Roman"/>
                <a:hlinkClick r:id="rId3"/>
              </a:rPr>
              <a:t>ic@fmz.edu.r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Биланс успеха</a:t>
            </a:r>
            <a:br>
              <a:rPr sz="3200"/>
            </a:b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- метода варијабилних трошкова</a:t>
            </a:r>
            <a:r>
              <a:rPr b="1" lang="sr-CS" sz="3200" spc="-1" strike="noStrike">
                <a:solidFill>
                  <a:srgbClr val="eaeaea"/>
                </a:solidFill>
                <a:latin typeface="Tahoma"/>
              </a:rPr>
              <a:t> -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9250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I Прихoди oд прoдаjе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II Варијабилни трошков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1.вариjабилни трoшкoви прoизвoдњ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а)Т.материjал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б)Т.рад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ц)oпшти В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2.варијабилни трошкови маркетинг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а)Т.дистрибуциj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б)Т.пакoвањ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ц)Т.рад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д)oстали В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III  МАРГИНАЛНИ (КОНТРИБУЦИОНИ) РЕЗУЛТАТ (I-II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IV  Фиксни трошков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V  ПОСЛОВНИ РЕЗУЛТАТ (III-IV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Биланс успеха</a:t>
            </a:r>
            <a:br>
              <a:rPr sz="3200"/>
            </a:b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- метода варијабилних трошкова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90720" y="1904760"/>
            <a:ext cx="8153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онцепт маргиналног резултата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м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гућава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асн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 сагледавања и разумевање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дн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са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бим-цена-ас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ртиман-тр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шк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ви-прих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ди-резултат и њих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в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 лак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 к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мбин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вање у циљу пр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налажења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птималне к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мбинаци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е, па ка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 такав представља изузетн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 флексибилн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 средств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 у пр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цесу кратк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р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чн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г планирања резултата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Фиксни тр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шк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ви се третира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у ка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 ирелевантни за кратк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р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чн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 планирање, па је ова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 к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нцепт п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десан за планирање, утврђивање и к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нтр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лу рентабилн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сти појединачног пр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изв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да и за пр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цес д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н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шења п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j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единачних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длука када п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ст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j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е алтернативне м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гућн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сти – нпр. ф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рмирање пр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да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них цена у усл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вима нед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в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љне иск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ришћен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сти капацитета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Материјалне претпоставке финансијске анализе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66320" y="1904760"/>
            <a:ext cx="75438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Подразумевају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Употребљивост билансних податак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Елиминисање негативних утицаја инфлациј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Консолидовање биланса сложеног интерес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Употребљивост билансних података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Подразумева поштовање законске, професионалне и интерне рачуноводствене регулативе у циљу обезбеђења реалних и поштених билансних податак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Елиминисање негативних утицаја инфлације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9250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Подразумева елиминисање (односно минимизирање) негативних утицаја инфлације из финансијских извештаја који угрожавају употребну вредност билансних података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Два концепта антиинфлаторног рачуноводства: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Концепт рачуноводства опште куповне моћи – који захтева корекцију позиција биланса стања и биланса успеха индексом општег нивоа цена, како би се изједначила куповна моћ капитала на крају, са оном на почетку пословног период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Концепт рачуноводства текуће вредности – који је усмерен на очување реалне супстанце и захтева ревалоризацију немонетарних средстава индексима цена или текућим ценама на дан билансирања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Консолидовање биланса сложеног интереса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7720" y="18284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Под сложеним интересом се подразумева група правно самосталних предузећа, повезаних економским интересом или уговором, која се по карактеристикама пословања и међусобним везама могу сматрати економском целином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Основу за израду консолидованог биланса чине појединачни биланси предузећа која чине групу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Појединачне позиције ових биланса се, најпре, сабирају да би се добили збирни биланси – збирни биланс стања и збирни биланс успеха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Из збирног биланса стања искључују се интерни имовински односи између предузећа чланица групе – интерна потраживања и обавезе, интерна учешћа у капиталу и интерни међурезултати настали по основу трансакција између предузећа чланица групе.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На тај начин се долази до консолидованог биланса стања групе као целин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Консолидовани биланс успеха добија се тако што се из збирног биланса успеха узимају само приходи и расходи који су везани за екстерну реализацију групе као целине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Питања за проверу знања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ведите и објасните претпоставке финансијске анализ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ведите предности и недостатке Биланс успеха по методи укупних трошков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ведите предности и недостатке Биланс успеха по методи продатих учинак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Шта подразумева употребљивост билансних података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ведите и укратко објасните главне концепте антиинлаторног рачуноводства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Шта подразумева консолидовање биланса сложеног интереса?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П-05: Претпоставке финансијске анализе</a:t>
            </a:r>
            <a:br>
              <a:rPr sz="2800"/>
            </a:br>
            <a:r>
              <a:rPr b="1" lang="sr-C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В-05: Формалне и материјалне претпоставке анализе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Формалне претпоставке финансијске анализ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ffffff"/>
                </a:solidFill>
                <a:latin typeface="Times New Roman"/>
              </a:rPr>
              <a:t>Припрема биланс стања за анализу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ffffff"/>
                </a:solidFill>
                <a:latin typeface="Times New Roman"/>
              </a:rPr>
              <a:t>Припрема билоанса успеха за анализу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Материјалне претпоставке финансијске анализ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ffffff"/>
                </a:solidFill>
                <a:latin typeface="Times New Roman"/>
              </a:rPr>
              <a:t>Употребљивост билансних податак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ffffff"/>
                </a:solidFill>
                <a:latin typeface="Times New Roman"/>
              </a:rPr>
              <a:t>Елиминисање негативних утицаја инфлациј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ffffff"/>
                </a:solidFill>
                <a:latin typeface="Times New Roman"/>
              </a:rPr>
              <a:t>Консолидовање биланмса  сложеног интерес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Претпоставке финансијске анализе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Предуслови који се у поступку припреме финансијских извештаја за анализу морају задовољити, како би њихова анализа обезбедила поуздану основу за адекватну оцену финансијског стања и успешности пословања и доношење ваљаних закључак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Деле се на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Формалне претпоставке - т</a:t>
            </a:r>
            <a:r>
              <a:rPr b="0" lang="sr-CS" sz="1600" spc="-1" strike="noStrike">
                <a:solidFill>
                  <a:srgbClr val="ffffff"/>
                </a:solidFill>
                <a:latin typeface="Times New Roman"/>
              </a:rPr>
              <a:t>ичу се изгледа билансних агрегата, а подразумевају адекватно груписање билансних позиција у хомогене целине и успостављање сврсисходног редоследа тако формираних група, у процесу припреме биланса за анализу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Материјалне претпоставке - односе се на материјалну садржину биланса, односно на обезбеђење реалних и поштених билансних податак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Формалне претпоставке финансијске анализе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Припрема биланса стања за анализу подразумева груписање билансних позиција у мањи број хомогених група које омогућавају сагледавање основних билансних релација, односно створити претпоставку остварења циља анализе биланса стања – утврђивање постојања финансијске равнотеже као услова ликвидности и солвентност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У ту сврху се врше одређена преуређења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ffffff"/>
                </a:solidFill>
                <a:latin typeface="Times New Roman"/>
              </a:rPr>
              <a:t>билансна шема се презентује у облику конта што погодује примени методе визуелне анализ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ffffff"/>
                </a:solidFill>
                <a:latin typeface="Times New Roman"/>
              </a:rPr>
              <a:t>позиције активе се класифукују по принципу опадајуће ликвидности, а позиције пасиве по принципу опадајуће доспелости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ffffff"/>
                </a:solidFill>
                <a:latin typeface="Times New Roman"/>
              </a:rPr>
              <a:t>позиција Неуплаћени уписани капитал се сврстава у дугорочна, односно краткорочна потраживања, у зависности од рока предвиђеног за уплату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ffffff"/>
                </a:solidFill>
                <a:latin typeface="Times New Roman"/>
              </a:rPr>
              <a:t>Разграничене су позиције потраживања, пласмана и готовине, при чему је позиција Активна временска разграничења укључена у текућа потраживањ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ffffff"/>
                </a:solidFill>
                <a:latin typeface="Times New Roman"/>
              </a:rPr>
              <a:t>позиција капитал је сажета на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sr-CS" sz="1600" spc="-1" strike="noStrike">
                <a:solidFill>
                  <a:srgbClr val="ffffff"/>
                </a:solidFill>
                <a:latin typeface="Times New Roman"/>
              </a:rPr>
              <a:t>сновни капитал и резерв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ffffff"/>
                </a:solidFill>
                <a:latin typeface="Times New Roman"/>
              </a:rPr>
              <a:t>краткорочне обавезе су разграничене на обавезе из пословања и обавезе из финансирања и издвојене од одугорочних обавез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ffffff"/>
                </a:solidFill>
                <a:latin typeface="Times New Roman"/>
              </a:rPr>
              <a:t>ванпословна актива и пасива нису приказан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Формалне претпоставке финансијске анализе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Биланс успеха, у </a:t>
            </a:r>
            <a:r>
              <a:rPr b="0" lang="sr-Latn-CS" sz="2000" spc="-1" strike="noStrike">
                <a:solidFill>
                  <a:srgbClr val="ffffff"/>
                </a:solidFill>
                <a:latin typeface="Times New Roman"/>
              </a:rPr>
              <a:t>зависности од прихваћеног критериjума разврставања прихода и расхода, може бити обликован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Times New Roman"/>
              </a:rPr>
              <a:t>по методи укупних трошков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Times New Roman"/>
              </a:rPr>
              <a:t>по методи трошкова продатих учинак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по методи варијабилних трошков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Биланс успеха</a:t>
            </a:r>
            <a:br>
              <a:rPr sz="3200"/>
            </a:b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- метода укупних трошкова -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Пословни приход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Пословни расход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ПОСЛОВНИ РЕЗУЛТА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Финансијски приход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Финансијски расход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Остали приход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Остали расход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РЕЗУЛТАТ ИЗ РЕДОВНОГ ПОСЛОВАЊ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РЕЗУЛТАТ ПРЕ ОПОРЕЗИВАЊ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ПОРЕЗ НА ДОБИ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НЕТО РЕЗУЛТА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Биланс успеха</a:t>
            </a:r>
            <a:br>
              <a:rPr sz="3200"/>
            </a:b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- метода укупних трошкова -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830592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Предности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директан је продук евиденције финансијског рачуноводства, па га је могуће брзо и једноставно израдит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пружа директан увид у основне природне врсте прихода и расхода и њихове конститутивне елементе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омогућава лако израчунавање међурезултата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Недостатци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не пружа податке за анализу трошкова по функционалним подручјима (набавка, производња, продаја) нити за анализу прихода и расхода по носиоцима успеха (групе и линије производа, канали продаје, сегменти тржишта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не обезбеђује информациону основу за конструисање и анализу графикона рентабилитета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Биланс успеха</a:t>
            </a:r>
            <a:br>
              <a:rPr sz="3200"/>
            </a:b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- метода трошкова продатих учинака -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696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Приходи од продаје производа и услуг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Цена коштања продатих производа и услуг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БРУТО РЕЗУЛТА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Трошкови управ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Трошкови продај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ПОСЛОВНИ РЕЗУЛТА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Финансијски приход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Финансијски расход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Остали приход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Остали расход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РЕЗУЛТАТ РЕДОВНОГ ПОСЛОВАЊ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Ванредни приход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Ванредни расход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ВАНРЕДНИ РЕЗУЛТА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РЕЗУЛТАТ ПРЕ ОПОРЕЗИВАЊ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ПОРЕЗ НА ДОБИ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НЕТО РЕЗУЛТА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Биланс успеха</a:t>
            </a:r>
            <a:br>
              <a:rPr sz="3200"/>
            </a:b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- метода трошкова продатих учинака -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807732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Предности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Times New Roman"/>
              </a:rPr>
              <a:t>пружа директан увид у структуру трoшкoва пo функциjама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 и њиховом степенастом покрићу приходима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Times New Roman"/>
              </a:rPr>
              <a:t>oмoгућава анализу графикoна рентабилитета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Недостатци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Times New Roman"/>
              </a:rPr>
              <a:t>не мoже 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се </a:t>
            </a:r>
            <a:r>
              <a:rPr b="0" lang="sr-Latn-CS" sz="2000" spc="-1" strike="noStrike">
                <a:solidFill>
                  <a:srgbClr val="ffffff"/>
                </a:solidFill>
                <a:latin typeface="Times New Roman"/>
              </a:rPr>
              <a:t>директнo извући из књигoвoдства jер захтева разрађен и дoбрo oрганизoван систем oбрачуна трoшкoва и резултата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omputer</cp:lastModifiedBy>
  <dcterms:modified xsi:type="dcterms:W3CDTF">2014-08-18T16:42:54Z</dcterms:modified>
  <cp:revision>3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