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75A4-59AF-4EEA-A1CD-8118AD610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2D38-0746-476A-A8A4-5DFCE79D7E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6A93-43F5-4807-800B-E909C1666F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2FB-3185-441C-AB97-92F71B95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F53-F326-4EC7-AA45-0C8DD68C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F84-E535-48C1-A27A-C775903D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13B-4B69-484E-B678-3B261B66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3B66-C8F6-4261-A9C7-2090A2C2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D490-3344-4C65-982C-FD95AFB1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38F1-5691-43E3-B00F-5069DBD0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969F-889C-44E8-8C03-AA783FA4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1EB0-CF42-4AB7-8FC2-E16D6DDB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996F-4DD0-4E20-9F41-AA5BE398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E1D2-CBC8-4E54-9E22-92D7C252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791-34C8-4CE0-9387-08ED4A2B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99F7-97EE-4182-8772-F0DC07A9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3264-10FE-4290-914E-0E82F0D7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D0C8-EA7F-45AD-B604-1D638C02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B6CB-6251-4014-B5EC-43BA0B0D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22F2-F5D3-4420-A958-C5B7BD93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7B1-8045-4263-BB83-9BC6C9D3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B3A-5CD1-4FBD-8306-DB0E5EA2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7F5-1EC1-4AEF-8955-3BDF6C4E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1E1-27E8-4B85-B4E5-6531CDB9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B8C-8984-454F-B680-EBEB6155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A39-C4FA-41AE-B26C-C45F89D1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F04-C41A-44BB-9092-E446CC95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0662-7D60-4AC5-B70B-2313946F93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F3FE-0169-450F-96FB-EE3FB4DDEC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ja.andrijasevic@fmz.edu.rs" TargetMode="External"/><Relationship Id="rId2" Type="http://schemas.openxmlformats.org/officeDocument/2006/relationships/hyperlink" Target="mailto:vesna.pasic@fmz.edu.rs" TargetMode="External"/><Relationship Id="rId3" Type="http://schemas.openxmlformats.org/officeDocument/2006/relationships/hyperlink" Target="mailto:vesna.pasic@fmz.edu.rs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шић 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vesna.pasic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01:Увод у проблематику анализе пословања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-01:Упознавање са основним појмовина и поступцима анализе послов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јам и предмет анализе посло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логе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иљеви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Задаци анали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јам и предмет анализе пословањ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јам потиче од грчке ''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analysis’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аставак процеса планирања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кojим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утвр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ђује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степен усклађенoсти пoстигнутих резултата пoслoвања са унапред пoстављеним циљев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формативна подлога за избор и систематизовање управљачких мер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дмет – сваки привредно-правни субјект са становишта пословних и радних проце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 ужем смислу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– финансијски извештаји предузе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 ширем смислу - анализа радних и репродукционих процеса, анализа пословних функција и елемената процеса рада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логе анали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ктивности контроле и оцене остварења планираних циљева и  извештавање менаџмента о пословном успеху предузећа у планском период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нформативна улога –припрема и критичка обрада показатеља о степену остваривања планских задата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нтролна улога –стицање увида у одговорност и степен доприноса појединих сегмената организационе структуре оствареном успеху предузе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Циљеви анали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сновни циљ анализе  је припремање подлоге, у виду информационе основе, за доношење одлука у вези планирања, организовања и контроле пословне актив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арцијални циљев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цена економско-финансијског положаја предузе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цена материјалних, људских и осталих ресурса у предузећу и могућности њихове рационализа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цена ефективности и ефикасности привређи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цена реалности утврђених планова и циљ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безбеђење информативне основе за одлучивањ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Задаци анали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аћење остварења планираних задатака – кроз периодичне извештаје у којима се сагледава однос остварених и планираних величина, улагања и резулт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Контрола остварења планова - провера понашања носиоца извршења у спровођењу планских одлука и располагању ресурсима, у циљу утврђивања одговор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цена остварења планских циљева - компаративна анализа планираних и остварених резултата и улагања, да би се уочила одступања и разлози тих одступања и формулисали предлози мера за њихово отклањањ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итања за проверу знањ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нишите појам анализе пословањ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јасните укратко значај анализе посло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тко објасните предмет анализе пословањ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ите и укратко објасните улоге анализе посло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 су и од чега зависе циљеве анализе пословањ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8-18T09:00:45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